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3965-8197-40D7-934B-5EA50907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D8AE-BA7C-4CB5-86B4-81C2A50A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099E-8429-4EA4-92FB-2E9FE04D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65F7-D9CE-4FCB-8ECC-A5F3BAC1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57A8-A4BA-4C33-AB4A-C2A35B71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DA34-8791-45ED-9D40-F64C01C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97F3-3C59-4E46-A89D-00F25D1D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97F2-A150-4730-8D9A-FCF37F6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547-9202-4202-B668-2417B450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E78-BF7F-4A3D-8C72-451020C9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D2C-B7B2-44E2-8691-C45D16E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9AAE-941A-405F-999F-FBC2C24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2B3-CAEE-4BFB-B166-EA8004D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4B81-C4F1-4F71-A7CA-9C7852B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8585-4B7D-40F9-8365-CFF032AF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6BD-8C53-4AA0-9CAF-1A63E50C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255B-A834-4724-8B7D-EF175CAA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75F4-A8D5-4632-8AF9-6E2D8609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B7F3-D732-49E3-8AF2-5A04A60D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464C-6C9A-405A-9529-21BBAE1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827A-4EA7-48BA-A22B-62087F27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C918-3122-4A80-BC58-4BF2FA29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9277-416A-428A-B4DB-0FFDAD07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3D13-88B7-4889-A4DC-C10AD0E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B1A1-FB35-484A-923D-125E485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651E-D32C-4D31-BB9E-D55F29F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A39F-F128-4AF3-B768-5DF3E14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63AA-9196-4645-A74E-4253134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7A8B-3409-4EA0-8FF4-45B3EA92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1799-A2F6-4B9D-BE84-E6D4667B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00F0-42F3-4F1B-8B73-D7D0EDE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0E40-CCB8-4F58-858E-368E7FF5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9AB5-BBC9-4344-96F3-B1CDD8F3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7948-022B-490F-9124-0D2EC05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07B6-6846-4E75-A85E-7943052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9356-D299-4704-99D2-C4ACC11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4F58-8E92-407A-A99E-DBFE54DD32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E492-A496-4BAB-A7F1-731C6EB2E6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0B30-E825-4324-964D-051A0C7D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uvrdub.ru/towns_herours.html" TargetMode="External"/><Relationship Id="rId2" Type="http://schemas.openxmlformats.org/officeDocument/2006/relationships/hyperlink" Target="http://www.publiclibrary.ru/readers/read/childread-obo-vsem-na-svete-o-voine-rasskazhet-kniga-goroda-gero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274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еликая       Отечественная Война     глазами сов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удентки 4 курса             филологического факультета  КГ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ызьюровой Анастасии Андре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530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445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0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0  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Основополагающий вопрос нашего проекта: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2766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234936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133720"/>
            <a:ext cx="532944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очем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зникаю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ойны 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Проблемные вопросы 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двиги, победы и поражен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орода-герои отличились своими подвигами в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ы последствия ВОВ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отношение современной молодёжи к ВОВ и её участникам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Дидактические цели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событиями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о трагических последствиях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ценить великий вклад участников 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Представление результатов исследован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товы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2371680" cy="1726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305080" cy="172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0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Распределение по групп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765000"/>
          <a:ext cx="8229600" cy="6004080"/>
        </p:xfrm>
        <a:graphic>
          <a:graphicData uri="http://schemas.openxmlformats.org/drawingml/2006/table">
            <a:tbl>
              <a:tblPr/>
              <a:tblGrid>
                <a:gridCol w="1738440"/>
                <a:gridCol w="3960720"/>
                <a:gridCol w="253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ники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двиги , победы и поражен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города-герои отличились своими подвигами в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ы последствия ВО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о отношение молодёжи к ВОВ и ее участникам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Этапы проведения проект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и формулирование тем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иск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амостоятельная работа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Защита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Информационные ресурсы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Истории для 10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chuvrdub.ru/towns_herour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publiclibrary.ru/readers/read/childread-obo-vsem-na-svete-o-voine-rasskazhet-kniga-goroda-geroi.ht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5:55Z</dcterms:created>
  <dc:creator>студент</dc:creator>
  <dc:description/>
  <dc:language>en-US</dc:language>
  <cp:lastModifiedBy>студент</cp:lastModifiedBy>
  <dcterms:modified xsi:type="dcterms:W3CDTF">2010-04-21T09:44:30Z</dcterms:modified>
  <cp:revision>16</cp:revision>
  <dc:subject/>
  <dc:title>Великая       Отечественная Война     глазами современности</dc:title>
</cp:coreProperties>
</file>